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81E-2E38-4BD9-8E2A-F679E438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DCB-BF05-404D-96CE-CC5C75D1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C83-EFB6-4957-9754-2B6E05DD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723-0712-43EF-80D0-5797D7EC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F57-4273-4FF6-92C9-B7EF8D06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839-7F20-4074-97C5-7D740063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FAE-B5A8-411D-9E17-7734E331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960-5B62-405D-A90D-91AEAFFD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35F-3CBA-4D05-AC4C-748372EA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CD0-CDB7-468C-AEEE-8152AF71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2CF2-0769-4B95-913F-33FC5D10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F3B-E4A2-45C2-A6AF-ED8CE58C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8B4B-FEA4-4DD7-9D9D-339079A18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ragon Gets B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ba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wi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8. i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9. di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0. s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1. w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5. hi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6. h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7. ra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66720" y="-360"/>
            <a:ext cx="4876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2. 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3. scratc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4. picnic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ragon Gets B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am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ba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5. s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6. wa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7. 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Dragon Gets B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p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scratc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picnic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drago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packe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8. kitche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9. sti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0. bla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11. snac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5. unti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6. wago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7. faste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 </cp:lastModifiedBy>
  <dcterms:modified xsi:type="dcterms:W3CDTF">2008-09-07T19:57:19Z</dcterms:modified>
  <cp:revision>4</cp:revision>
  <dc:subject/>
  <dc:title>The Art Lesson Group A</dc:title>
</cp:coreProperties>
</file>